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jpeg" ContentType="image/jpeg"/>
  <Override PartName="/ppt/media/image11.png" ContentType="image/png"/>
  <Override PartName="/ppt/media/image7.jpeg" ContentType="image/jpeg"/>
  <Override PartName="/ppt/media/image19.gif" ContentType="image/gif"/>
  <Override PartName="/ppt/media/image10.png" ContentType="image/png"/>
  <Override PartName="/ppt/media/image18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png" ContentType="image/png"/>
  <Override PartName="/ppt/media/image6.gif" ContentType="image/gif"/>
  <Override PartName="/ppt/media/image1.jpeg" ContentType="image/jpeg"/>
  <Override PartName="/ppt/media/image4.gif" ContentType="image/gif"/>
  <Override PartName="/ppt/media/image1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CEA-84F1-4362-9F3D-13B229D2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729-BEB6-4AD3-B75F-BC9D5E36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8D3-7478-418C-BBA0-85273775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B98-6FBC-4660-A06A-A8C33D7B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6913-14C2-413F-82E3-F9FF8F08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FADA-3D20-44C9-9D5D-C21E454B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D707-6525-4D4E-954E-97F20AC6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6977-B256-4C09-85DA-AFD36837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7124-C06D-4E56-A9BE-B714CEAD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C30B-569A-4960-83F6-A206BEC9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BFCB-5CCB-421C-A611-1B0BF724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D16-2D07-47B0-97B9-553F2BD0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A7E8-1EEE-406D-8E8D-9FD6C763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2197-AEE9-4AFB-A102-CBFD25D7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E2C5-CFFE-456C-A6E3-25C09A30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2672-BD8D-458F-B7F7-73AF5E5A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1D89-F64E-4698-B8CC-A4C14A39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951-3D5F-475B-AF0E-36A378B9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5FF-1562-4DDB-98ED-EF093617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170-CD11-4DF1-8607-868DA7ED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8FD-066A-43EC-85F9-05531EC8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39B-70ED-484E-843C-608DA13F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D52-4905-4052-B712-7C2E6508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C51-9CB2-4295-A2F6-A903B10A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0FE5-C7D3-48FF-AC8C-F710D1D335B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8F56-F2F8-41B7-A293-A3297FB9516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5562720"/>
            <a:ext cx="5673960" cy="125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-838080" y="5264280"/>
            <a:ext cx="3657600" cy="1593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flipH="1">
            <a:off x="7543440" y="5373720"/>
            <a:ext cx="1600200" cy="148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04920" y="304920"/>
            <a:ext cx="6476760" cy="1752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447920" y="4572000"/>
            <a:ext cx="609588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اعداد الاستاذه / مروه ممدوح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2438280"/>
            <a:ext cx="84582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ndalus"/>
              </a:rPr>
              <a:t>اكبر الرحلات في اصغر المسافات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ndalus"/>
              <a:ea typeface="Andalus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0"/>
            <a:ext cx="2362320" cy="1828800"/>
          </a:xfrm>
          <a:prstGeom prst="ellipse">
            <a:avLst/>
          </a:prstGeom>
          <a:solidFill>
            <a:srgbClr val="ffffff"/>
          </a:solidFill>
          <a:ln cap="sq"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محافظه الفيوم</a:t>
            </a: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ادارة طاميه</a:t>
            </a: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66"/>
                </a:solidFill>
                <a:latin typeface="Times New Roman"/>
              </a:rPr>
              <a:t>مدرسه كوم اوشيم 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099-C03B-4B39-9DC6-FA5B01AC1DE9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457200"/>
            <a:ext cx="8686800" cy="838080"/>
          </a:xfrm>
          <a:prstGeom prst="rect">
            <a:avLst/>
          </a:prstGeom>
          <a:solidFill>
            <a:srgbClr val="ff0066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Times New Roman"/>
              </a:rPr>
              <a:t>هل هناك علاقه بين صحة جهازك الهضمي ونظافتك الشخصيه 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1376280" cy="1219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1752480"/>
            <a:ext cx="8839080" cy="1067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Times New Roman"/>
              </a:rPr>
              <a:t>اذا كانت اجابتك بنعم وضح هذه العلاقه حسب فهمك للموضوع 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00400"/>
            <a:ext cx="8839080" cy="83808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99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Times New Roman"/>
              </a:rPr>
              <a:t>ما العلاقه بين صحتك ونظافه البيئه المحيطه بك 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343400"/>
            <a:ext cx="8134200" cy="1371600"/>
          </a:xfrm>
          <a:prstGeom prst="borderCallout1">
            <a:avLst>
              <a:gd name="adj1" fmla="val 18750"/>
              <a:gd name="adj2" fmla="val -8333"/>
              <a:gd name="adj3" fmla="val -45833"/>
              <a:gd name="adj4" fmla="val 100935"/>
            </a:avLst>
          </a:prstGeom>
          <a:solidFill>
            <a:srgbClr val="ccff99"/>
          </a:solidFill>
          <a:ln w="28440">
            <a:solidFill>
              <a:srgbClr val="99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Times New Roman"/>
              </a:rPr>
              <a:t>ما الامراض الناتجه عن اهمال الانسان لنظافته الشخصيه ونظافه البيئه من حولك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B17-A14F-4FF5-811C-FDDC9604A159}" type="slidenum">
              <a:t>10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76320">
            <a:solidFill>
              <a:srgbClr val="eaeaea"/>
            </a:solidFill>
            <a:prstDash val="lgDash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0000"/>
                </a:solidFill>
                <a:latin typeface="Times New Roman"/>
              </a:rPr>
              <a:t>قارن بين القناه الهضميه والغدد الملحقه بالقناه الهضميه ؟</a:t>
            </a:r>
            <a:r>
              <a:rPr b="0" lang="ar-EG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905120"/>
          <a:ext cx="8229600" cy="4773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الغدد الملحقه بالجهاز الهضمي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القناه الهضميه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وجه المقارنه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هي عباره عن غدد تقوم بإنتاج العصارات التي تصب في</a:t>
                      </a: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..........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هي قناه عضليه يتم فيها هضم الطعام و</a:t>
                      </a: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.........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تعريفها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تتكون من الغده ...... و ....... و.......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تساعد هذه الافرازات في اتمام عمليه ......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تبدء بالفم وتنتهي ب</a:t>
                      </a: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........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مكوناتها ووظيفتها</a:t>
                      </a:r>
                      <a:r>
                        <a:rPr b="1" lang="ar-EG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7EA-4213-49A2-B456-B034B393B9A9}" type="slidenum">
              <a:t>11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9913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Times New Roman"/>
              </a:rPr>
              <a:t>ما اسباب الاصابه بامراض الجهاز الهضمي في الانسان  ؟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219320" y="1905120"/>
            <a:ext cx="7467480" cy="4572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ff0000"/>
            </a:solidFill>
            <a:prstDash val="lgDashDotDot"/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Times New Roman"/>
              </a:rPr>
              <a:t>عدم المحافظه علي</a:t>
            </a:r>
            <a:r>
              <a:rPr b="0" lang="ar-EG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383-697A-4A45-A649-5F991ACD58A2}" type="slidenum">
              <a:t>12</a:t>
            </a:fld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4920" y="380880"/>
            <a:ext cx="8534160" cy="2590920"/>
          </a:xfrm>
          <a:custGeom>
            <a:avLst/>
            <a:gdLst>
              <a:gd name="textAreaLeft" fmla="*/ 0 w 8534160"/>
              <a:gd name="textAreaRight" fmla="*/ 8534520 w 8534160"/>
              <a:gd name="textAreaTop" fmla="*/ 335880 h 2590920"/>
              <a:gd name="textAreaBottom" fmla="*/ 225504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Times New Roman"/>
              </a:rPr>
              <a:t>تتبع مسار بلعه غذائيه داخل جهازك الهضمي ؟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543800" y="4419720"/>
            <a:ext cx="160020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687-9594-494A-8316-E8C0FD741282}" type="slidenum">
              <a:t>13</a:t>
            </a:fld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2280" y="457200"/>
            <a:ext cx="8839440" cy="1523880"/>
          </a:xfrm>
          <a:prstGeom prst="wedgeRoundRectCallout">
            <a:avLst>
              <a:gd name="adj1" fmla="val 36583"/>
              <a:gd name="adj2" fmla="val 78023"/>
              <a:gd name="adj3" fmla="val 16667"/>
            </a:avLst>
          </a:prstGeom>
          <a:solidFill>
            <a:srgbClr val="ff0066"/>
          </a:solidFill>
          <a:ln w="381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Times New Roman"/>
              </a:rPr>
              <a:t>ما الامراض الناتجه عن اهمال الانسان لنظافته الشخصيه ونظافه البيئه التي يعيش فيها ؟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144-9E4B-43BF-95EA-5D82F6647BD4}" type="slidenum">
              <a:t>14</a:t>
            </a:fld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0" y="380880"/>
            <a:ext cx="8839080" cy="2514600"/>
            <a:chOff x="0" y="380880"/>
            <a:chExt cx="8839080" cy="2514600"/>
          </a:xfrm>
        </p:grpSpPr>
        <p:sp>
          <p:nvSpPr>
            <p:cNvPr id="163" name=""/>
            <p:cNvSpPr/>
            <p:nvPr/>
          </p:nvSpPr>
          <p:spPr>
            <a:xfrm>
              <a:off x="0" y="380880"/>
              <a:ext cx="8839080" cy="2514600"/>
            </a:xfrm>
            <a:prstGeom prst="cloudCallout">
              <a:avLst>
                <a:gd name="adj1" fmla="val 30819"/>
                <a:gd name="adj2" fmla="val 700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914400" y="1143000"/>
              <a:ext cx="70866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7dfd3">
                        <a:alpha val="50000"/>
                      </a:srgbClr>
                    </a:outerShdw>
                  </a:effectLst>
                  <a:latin typeface="Times New Roman"/>
                </a:rPr>
                <a:t>ماذا تعرف عن اسباب الاصابه بدودة الانكلستوما ؟</a:t>
              </a:r>
              <a:endPara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FA4-C5C3-4CB6-8B65-DBD6473D7FB6}" type="slidenum">
              <a:t>15</a:t>
            </a:fld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280" y="380880"/>
            <a:ext cx="8763120" cy="2667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0000"/>
                </a:solidFill>
                <a:latin typeface="Times New Roman"/>
              </a:rPr>
              <a:t>ما الطورالمعدي الذي يصيب الانسان ويجدد دورة حياة الدودة 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3AE-8A74-4507-A252-C45CD35CB526}" type="slidenum">
              <a:t>1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04920" y="228600"/>
            <a:ext cx="8839080" cy="2590920"/>
          </a:xfrm>
          <a:prstGeom prst="wedgeEllipseCallout">
            <a:avLst>
              <a:gd name="adj1" fmla="val 33944"/>
              <a:gd name="adj2" fmla="val 64092"/>
            </a:avLst>
          </a:prstGeom>
          <a:solidFill>
            <a:srgbClr val="ffffcc"/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Times New Roman"/>
              </a:rPr>
              <a:t>كيف يمكنك تجنب الاصابه بدودة الانكلستوما 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D84-B21E-4000-AAF7-C98C609704BD}" type="slidenum">
              <a:t>17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352680"/>
            <a:ext cx="9144000" cy="2362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prstDash val="sysDot"/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762120"/>
            <a:ext cx="9144000" cy="1600200"/>
          </a:xfrm>
          <a:prstGeom prst="rect">
            <a:avLst/>
          </a:prstGeom>
          <a:solidFill>
            <a:srgbClr val="eaeaea"/>
          </a:solidFill>
          <a:ln w="38160">
            <a:solidFill>
              <a:srgbClr val="800000"/>
            </a:solidFill>
            <a:prstDash val="sysDot"/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flowChartPredefined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533520"/>
            <a:ext cx="9144000" cy="73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Times New Roman"/>
              </a:rPr>
              <a:t>كم عدد المصابين بالامراض المعديه التي تسببها الديدان الطفيليه في الحي الذي تسكنه ؟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ar-EG" sz="3200" spc="-1" strike="noStrike">
                <a:solidFill>
                  <a:srgbClr val="ff0000"/>
                </a:solidFill>
                <a:latin typeface="Times New Roman"/>
              </a:rPr>
              <a:t>هل تختلف معدلات الإصابة بهذه الامراض المعديه مثل دودة الاسكارس ودودة الانكلستوما فيما بين الاشخاص الذين يحافظون علي نظافتهم الشخصيه ونظافه البيئه عن غيرهم 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FCA-EAF4-4855-A78B-AC7EA52CF3FC}" type="slidenum">
              <a:t>18</a:t>
            </a:fld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5228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00"/>
                </a:solidFill>
                <a:latin typeface="Times New Roman"/>
              </a:rPr>
              <a:t>ما دورك نحو  التوعيه للحد من انتشار الامراض المعديه بين افراد المنطقه التي تعيش بها 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76520" y="2209680"/>
            <a:ext cx="6781680" cy="4343400"/>
          </a:xfrm>
          <a:prstGeom prst="flowChartPunchedCard">
            <a:avLst/>
          </a:prstGeom>
          <a:solidFill>
            <a:srgbClr val="ffffff"/>
          </a:solidFill>
          <a:ln w="38160">
            <a:solidFill>
              <a:srgbClr val="990000"/>
            </a:solidFill>
            <a:prstDash val="dashDot"/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43E-21CE-4840-9DD9-34C80BE80383}" type="slidenum">
              <a:t>19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38280" y="3352680"/>
            <a:ext cx="6324840" cy="16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5410080"/>
            <a:ext cx="8763120" cy="121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Times New Roman"/>
              </a:rPr>
              <a:t>ما مستلزمات رحلتك في الحياه ؟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0"/>
            <a:ext cx="8610480" cy="2971800"/>
          </a:xfrm>
          <a:prstGeom prst="cloudCallout">
            <a:avLst>
              <a:gd name="adj1" fmla="val 31361"/>
              <a:gd name="adj2" fmla="val 46527"/>
            </a:avLst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eaeaea"/>
                </a:solidFill>
                <a:latin typeface="Times New Roman"/>
              </a:rPr>
              <a:t>ما تصورك عن اكبر رحله يمكن ان تتم في اصغر مسافه يوميا بداخلك 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flipH="1">
            <a:off x="-360" y="2590920"/>
            <a:ext cx="213372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440E-71A8-4B5E-9E2E-94AA90C72D36}" type="slidenum">
              <a:t>2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915400" cy="2971800"/>
          </a:xfrm>
          <a:prstGeom prst="rect">
            <a:avLst/>
          </a:prstGeom>
          <a:solidFill>
            <a:srgbClr val="990099"/>
          </a:solidFill>
          <a:ln w="76320">
            <a:solidFill>
              <a:srgbClr val="990099"/>
            </a:solidFill>
            <a:prstDash val="lgDash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Times New Roman"/>
              </a:rPr>
              <a:t>وضح دور الدوله في الحد من انتشار الامراض المعديه خاصه في المناطق النائيه والمناطق العشوائيه ؟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7E3-59A7-4F12-8924-AB66A302EF1A}" type="slidenum">
              <a:t>20</a:t>
            </a:fld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33720" y="152280"/>
            <a:ext cx="6553080" cy="6629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09320" y="380520"/>
            <a:ext cx="6324840" cy="571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ناول بعض الأفكار أو المعلومات التي توصل إليها زملاؤك ووضح أهميتها للعمل بالمشرو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اقش مع زملائك بعض الحلول المقترحة لمواجهة</a:t>
            </a:r>
            <a:r>
              <a:rPr b="1" lang="ar-EG" sz="3200" spc="-1" strike="noStrike">
                <a:solidFill>
                  <a:srgbClr val="000000"/>
                </a:solidFill>
                <a:latin typeface="Times New Roman"/>
              </a:rPr>
              <a:t> انتشار الامراض المعديه في الحي الذي تسكن به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قم بتحديد أفضل الحلول </a:t>
            </a:r>
            <a:r>
              <a:rPr b="1" lang="ar-EG" sz="3200" spc="-1" strike="noStrike">
                <a:solidFill>
                  <a:srgbClr val="000000"/>
                </a:solidFill>
                <a:latin typeface="Times New Roman"/>
              </a:rPr>
              <a:t>لمواجهة ظاهره انتشار الامراض المعديه في مصر وذلك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بالاشتراك مع زملائك </a:t>
            </a:r>
            <a:r>
              <a:rPr b="1" lang="ar-EG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اقش مع مجموعتك أكثر المشكلات التي تواجهك يوميا منذ توجهك إلى المدرسة وحتى نهاية اليوم الدراس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981080" cy="148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32D-6FD0-4B1D-9EC3-839AAF58245C}" type="slidenum">
              <a:t>21</a:t>
            </a:fld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505320" y="1981080"/>
            <a:ext cx="3887640" cy="3024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209680" y="304920"/>
            <a:ext cx="6326280" cy="1460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0" y="5295960"/>
            <a:ext cx="9144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effectLst>
                  <a:outerShdw dist="107932" dir="8100000" blurRad="0" rotWithShape="0">
                    <a:srgbClr val="c0c0c0">
                      <a:alpha val="50000"/>
                    </a:srgbClr>
                  </a:outerShdw>
                </a:effectLst>
                <a:latin typeface="Andalus"/>
              </a:rPr>
              <a:t> </a:t>
            </a:r>
            <a:r>
              <a:rPr b="0" lang="hi-IN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effectLst>
                  <a:outerShdw dist="107932" dir="8100000" blurRad="0" rotWithShape="0">
                    <a:srgbClr val="c0c0c0">
                      <a:alpha val="50000"/>
                    </a:srgbClr>
                  </a:outerShdw>
                </a:effectLst>
                <a:latin typeface="Andalus"/>
              </a:rPr>
              <a:t>الحمد لله رب العالمين والصلاة والسلام على سيد المرسلين</a:t>
            </a:r>
            <a:endParaRPr b="1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000000"/>
              </a:solidFill>
              <a:effectLst>
                <a:outerShdw dist="107932" dir="8100000" blurRad="0" rotWithShape="0">
                  <a:srgbClr val="c0c0c0">
                    <a:alpha val="50000"/>
                  </a:srgbClr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0" y="5715000"/>
            <a:ext cx="137628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 flipH="1" rot="10800000">
            <a:off x="0" y="-360"/>
            <a:ext cx="137628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A3A-B1C0-46B3-87DF-AE91401DB5E3}" type="slidenum">
              <a:t>22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6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1981080"/>
            <a:ext cx="7162560" cy="15242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00"/>
                </a:solidFill>
                <a:latin typeface="Times New Roman"/>
              </a:rPr>
              <a:t>ما الاشياء التي لا يمكن ان تعيش بدونها ابدا 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76320" y="3821040"/>
            <a:ext cx="944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ماذا يستفيد جسمك من الحصول علي هذه الاشياء ؟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1337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00"/>
                </a:solidFill>
                <a:latin typeface="Times New Roman"/>
              </a:rPr>
              <a:t>اي ما الاشياء الضروريه لحياتك  ؟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541008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890-7DEB-469B-BF52-43E3F00614AA}" type="slidenum">
              <a:t>3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1904760"/>
          </a:xfrm>
          <a:prstGeom prst="wedgeRectCallout">
            <a:avLst>
              <a:gd name="adj1" fmla="val 44791"/>
              <a:gd name="adj2" fmla="val 77000"/>
            </a:avLst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400" spc="-1" strike="noStrike">
                <a:solidFill>
                  <a:srgbClr val="ff0000"/>
                </a:solidFill>
                <a:latin typeface="Times New Roman"/>
              </a:rPr>
              <a:t>كيف يمكن ان يستفيد جسمك من هذه الاشياء في القيام بالاعمال المطلوبه منك كل يوم  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514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ما الذي يمدك بالطاقه اللازمه للقيام ب</a:t>
            </a:r>
            <a:r>
              <a:rPr b="1" lang="ar-EG" sz="5400" spc="-1" strike="noStrike">
                <a:solidFill>
                  <a:srgbClr val="000000"/>
                </a:solidFill>
                <a:latin typeface="Arial"/>
              </a:rPr>
              <a:t>تلك الا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نشطه </a:t>
            </a:r>
            <a:r>
              <a:rPr b="1" lang="ar-EG" sz="54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86440" y="5562720"/>
            <a:ext cx="2257560" cy="121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5781600"/>
            <a:ext cx="2338560" cy="107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20840400">
            <a:off x="3123720" y="5349600"/>
            <a:ext cx="300204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1315" y="182"/>
                </a:moveTo>
                <a:lnTo>
                  <a:pt x="453" y="0"/>
                </a:lnTo>
                <a:lnTo>
                  <a:pt x="0" y="363"/>
                </a:lnTo>
                <a:lnTo>
                  <a:pt x="226" y="771"/>
                </a:lnTo>
                <a:lnTo>
                  <a:pt x="952" y="998"/>
                </a:lnTo>
                <a:lnTo>
                  <a:pt x="1587" y="635"/>
                </a:lnTo>
                <a:lnTo>
                  <a:pt x="1315" y="18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10E-7E76-44F5-A8EC-79A39A4D3024}" type="slidenum">
              <a:t>4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228600" y="152280"/>
            <a:ext cx="9448920" cy="1524240"/>
          </a:xfrm>
          <a:prstGeom prst="ellipse">
            <a:avLst/>
          </a:prstGeom>
          <a:solidFill>
            <a:srgbClr val="ffcc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Times New Roman"/>
              </a:rPr>
              <a:t>هل فكرت في يوم من الايام في انواع الاطعمه المختلفه التي تتناولها 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09680"/>
            <a:ext cx="9144000" cy="106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Times New Roman"/>
              </a:rPr>
              <a:t>هل تتناول كل يوم نفس النوع من الطعام او الشراب 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505320"/>
            <a:ext cx="8381880" cy="1600200"/>
          </a:xfrm>
          <a:prstGeom prst="ellipse">
            <a:avLst/>
          </a:prstGeom>
          <a:solidFill>
            <a:srgbClr val="cc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</a:rPr>
              <a:t>ما انواع </a:t>
            </a:r>
            <a:r>
              <a:rPr b="1" lang="ar-EG" sz="4000" spc="-1" strike="noStrike">
                <a:solidFill>
                  <a:srgbClr val="ff0066"/>
                </a:solidFill>
                <a:latin typeface="Times New Roman"/>
              </a:rPr>
              <a:t>الطعام</a:t>
            </a:r>
            <a:r>
              <a:rPr b="1" lang="ar-SA" sz="4000" spc="-1" strike="noStrike">
                <a:solidFill>
                  <a:srgbClr val="ff0066"/>
                </a:solidFill>
                <a:latin typeface="Times New Roman"/>
              </a:rPr>
              <a:t> التي تتناولها </a:t>
            </a:r>
            <a:r>
              <a:rPr b="1" lang="ar-EG" sz="4000" spc="-1" strike="noStrike">
                <a:solidFill>
                  <a:srgbClr val="ff0066"/>
                </a:solidFill>
                <a:latin typeface="Times New Roman"/>
              </a:rPr>
              <a:t>اثناء الوجبات </a:t>
            </a:r>
            <a:r>
              <a:rPr b="1" lang="ar-SA" sz="4000" spc="-1" strike="noStrike">
                <a:solidFill>
                  <a:srgbClr val="ff0066"/>
                </a:solidFill>
                <a:latin typeface="Times New Roman"/>
              </a:rPr>
              <a:t>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1280" y="4876920"/>
            <a:ext cx="137664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629400" y="4800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752480" y="5410080"/>
            <a:ext cx="480060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8A3-B852-479B-8AAD-F2E341C1B047}" type="slidenum">
              <a:t>5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80880"/>
            <a:ext cx="9144000" cy="3048120"/>
          </a:xfrm>
          <a:prstGeom prst="cloudCallout">
            <a:avLst>
              <a:gd name="adj1" fmla="val -13074"/>
              <a:gd name="adj2" fmla="val 50884"/>
            </a:avLst>
          </a:prstGeom>
          <a:solidFill>
            <a:srgbClr val="ffcccc"/>
          </a:solidFill>
          <a:ln cap="rnd" w="12600">
            <a:solidFill>
              <a:srgbClr val="ff0066"/>
            </a:solidFill>
            <a:custDash>
              <a:ds d="100000" sp="1000"/>
            </a:custDash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Times New Roman"/>
              </a:rPr>
              <a:t>تفتكر ماذا يحدث للطعام بعد تناوله ؟</a:t>
            </a:r>
            <a:r>
              <a:rPr b="1" lang="ar-EG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EG" sz="4000" spc="-1" strike="noStrike">
                <a:solidFill>
                  <a:srgbClr val="000000"/>
                </a:solidFill>
                <a:latin typeface="Times New Roman"/>
              </a:rPr>
              <a:t>واين يحدث؟ وكيف يحدث 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3886200"/>
            <a:ext cx="5639040" cy="28954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cap="sq" w="19080">
            <a:solidFill>
              <a:srgbClr val="ff0066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DE9-205A-465F-B17A-282194733EB5}" type="slidenum">
              <a:t>6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</a:rPr>
              <a:t>لماذا سمي الجهاز الهضمي بهذا الاسم ؟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عرف عملية الهضم ؟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مما يتكون جهازك الهضمي ؟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ما الفرق بين اعضاء الجهاز الهضمي والغدد الملحقه به 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قارن بين مكونات القناة الهضمية والغدد الملحقة بالقناة الهضمية ؟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ما وظائف الغدد الملحقه بالجهاز الهضمي ؟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ما وظيفه كل عضو من اعضاء الجهاز الهضمي في الانسان ؟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ما الفرق بين الهضم والامتصاص ؟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كيف يمكنك الحفاظ علي جهازك الهضمي ضد الامراض ؟</a:t>
            </a:r>
            <a:br>
              <a:rPr sz="2400"/>
            </a:b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صف مراحل الهضم في الجهاز الهضمي ؟ وذلك بتتبع مسار بلعه غذائيه داخل جهازك الهضمي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1828800" cy="1484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627-8CFA-4C34-BCF6-1DD4821558A0}" type="slidenum">
              <a:t>7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52280"/>
            <a:ext cx="9144000" cy="2057400"/>
          </a:xfrm>
          <a:prstGeom prst="ellipse">
            <a:avLst/>
          </a:prstGeom>
          <a:solidFill>
            <a:srgbClr val="ccff99"/>
          </a:solidFill>
          <a:ln cap="sq" w="12600">
            <a:solidFill>
              <a:srgbClr val="eaeaea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9601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لماذا يجب ان تمضغ الطعام جيدا اثناء تناوله 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3581280"/>
            <a:ext cx="8915400" cy="1067040"/>
          </a:xfrm>
          <a:prstGeom prst="rect">
            <a:avLst/>
          </a:prstGeom>
          <a:solidFill>
            <a:srgbClr val="ffcccc"/>
          </a:solidFill>
          <a:ln cap="rnd" w="19080">
            <a:solidFill>
              <a:srgbClr val="800000"/>
            </a:solidFill>
            <a:custDash>
              <a:ds d="100000" sp="1000"/>
            </a:custDash>
            <a:miter/>
          </a:ln>
        </p:spPr>
        <p:txBody>
          <a:bodyPr anchor="t">
            <a:normAutofit fontScale="77000"/>
          </a:bodyPr>
          <a:p>
            <a:pPr marL="263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000000"/>
                </a:solidFill>
                <a:latin typeface="Times New Roman"/>
              </a:rPr>
              <a:t>ماذا يحدث لو لم يمضغ الطعام جيدا  ؟؟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2057400" cy="1484280"/>
          </a:xfrm>
          <a:prstGeom prst="rect">
            <a:avLst/>
          </a:prstGeom>
          <a:ln w="0">
            <a:noFill/>
          </a:ln>
        </p:spPr>
      </p:pic>
      <p:pic>
        <p:nvPicPr>
          <p:cNvPr id="142" name="020" descr=""/>
          <p:cNvPicPr/>
          <p:nvPr/>
        </p:nvPicPr>
        <p:blipFill>
          <a:blip r:embed="rId3"/>
          <a:stretch/>
        </p:blipFill>
        <p:spPr>
          <a:xfrm>
            <a:off x="3962520" y="4724280"/>
            <a:ext cx="167616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6A1-8B18-4D52-8CE5-E56839E0499F}" type="slidenum">
              <a:t>8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2286000"/>
            <a:ext cx="7696440" cy="3886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0000"/>
            </a:solidFill>
            <a:custDash>
              <a:ds d="100000" sp="1000"/>
            </a:custDash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Times New Roman"/>
              </a:rPr>
              <a:t>عدم الاكثار من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Times New Roman"/>
              </a:rPr>
              <a:t>الحفاظ علي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Times New Roman"/>
              </a:rPr>
              <a:t>الاهتمام ب</a:t>
            </a:r>
            <a:r>
              <a:rPr b="0" lang="ar-EG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376280" cy="1484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280" y="228600"/>
            <a:ext cx="8915400" cy="1905120"/>
          </a:xfrm>
          <a:prstGeom prst="downArrowCallout">
            <a:avLst>
              <a:gd name="adj1" fmla="val -85914"/>
              <a:gd name="adj2" fmla="val 116993"/>
              <a:gd name="adj3" fmla="val 16667"/>
              <a:gd name="adj4" fmla="val 66667"/>
            </a:avLst>
          </a:prstGeom>
          <a:solidFill>
            <a:srgbClr val="ffff99"/>
          </a:solidFill>
          <a:ln w="19080">
            <a:solidFill>
              <a:srgbClr val="ff0066"/>
            </a:solidFill>
            <a:prstDash val="dashDot"/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0000"/>
                </a:solidFill>
                <a:latin typeface="Times New Roman"/>
              </a:rPr>
              <a:t>من طرق المحافظه علي صحتك جهازك الهضمي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CE6-2986-4740-9C38-625137618C87}" type="slidenum">
              <a:t>9</a:t>
            </a:fld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9:00:23Z</dcterms:created>
  <dc:creator>magichorse</dc:creator>
  <dc:description/>
  <dc:language>en-US</dc:language>
  <cp:lastModifiedBy>lolo</cp:lastModifiedBy>
  <dcterms:modified xsi:type="dcterms:W3CDTF">2007-12-01T19:44:16Z</dcterms:modified>
  <cp:revision>85</cp:revision>
  <dc:subject/>
  <dc:title>Slide 1</dc:title>
</cp:coreProperties>
</file>